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B354-BA31-46F7-8A44-7654803744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E92A-43B9-48F1-A91D-5B673D1AEA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3C59-325C-4225-8518-267305321F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BFC0-C636-418D-ACB6-EBD29F7481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5982-2400-4300-8FE3-D31FCE2B88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E87E-087D-4229-BBAE-16150C5C75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057B-9BB5-4574-B64B-AF121C8780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BF4C-B40C-4AD1-89DE-16FDC49288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55E9-432B-4E83-9E98-567F4E7093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C938-D78A-4479-B3BE-F6F178D70C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6C73-4D95-4F47-9296-CD4E05B1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534A-740A-4C26-884F-96D4425D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734-0E90-4A8C-BBAF-07BA7533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7F8-CC8B-4A9F-8363-4C07483F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08BE-7DCF-40F9-A45C-60AD4DD8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0860-ABD4-4338-86C1-12CD7BF6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587D-CA8B-4CAC-887E-67CC6573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6208-710E-4381-ABCA-783BF246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5233-9A5C-43C6-B7C3-177B7C5D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CBF1-169F-4B9C-92FD-B1442FCE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825D-178D-4685-A1D8-EC699271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528D-D0CF-4E56-9101-73A0E521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26C4-6ACF-4730-920A-AE18AEF5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F85A-859C-40CF-B6CE-A25BBE4C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5FA3-3999-4E90-B12C-59C1ADB3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303D-649D-4D33-8D3D-F3EB4C56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558D-92CA-40DF-9BDB-818D06A3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723C-2096-4309-9E20-0807D30E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57B-47A6-479F-A9CC-73B35861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2B0B-8E77-41E8-A8B3-AD083C37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9F45-6686-4A25-8EC1-118A5E48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37F-288F-40DB-B779-0316A8C3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621D-9AD2-4DD8-88D1-728046D8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C265-1795-48D3-A2FB-D955EA62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FB60-19A6-44DB-B88B-3A0BCFEEFD1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A678-50F3-409F-9796-36391A75A16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0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24000" y="2276640"/>
            <a:ext cx="262404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ль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ф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348000" y="2276640"/>
            <a:ext cx="222408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бри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156360" y="2257560"/>
            <a:ext cx="273672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леонт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85880" y="3933720"/>
            <a:ext cx="3143160" cy="113040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географ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6"/>
          <p:cNvCxnSpPr>
            <a:stCxn id="90" idx="0"/>
          </p:cNvCxnSpPr>
          <p:nvPr/>
        </p:nvCxnSpPr>
        <p:spPr>
          <a:xfrm flipV="1">
            <a:off x="4460040" y="2261880"/>
            <a:ext cx="30240" cy="15120"/>
          </a:xfrm>
          <a:prstGeom prst="straightConnector1">
            <a:avLst/>
          </a:prstGeom>
          <a:ln w="9360">
            <a:solidFill>
              <a:srgbClr val="808000"/>
            </a:solidFill>
            <a:miter/>
          </a:ln>
        </p:spPr>
      </p:cxnSp>
      <p:sp>
        <p:nvSpPr>
          <p:cNvPr id="94" name="Line 7"/>
          <p:cNvSpPr/>
          <p:nvPr/>
        </p:nvSpPr>
        <p:spPr>
          <a:xfrm>
            <a:off x="4486320" y="1300320"/>
            <a:ext cx="293688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1743120" y="1300320"/>
            <a:ext cx="274320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486320" y="1300320"/>
            <a:ext cx="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2560680" y="466560"/>
            <a:ext cx="3851280" cy="1283040"/>
          </a:xfrm>
          <a:prstGeom prst="rect">
            <a:avLst/>
          </a:prstGeom>
          <a:solidFill>
            <a:srgbClr val="d2be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1"/>
          <p:cNvSpPr/>
          <p:nvPr/>
        </p:nvSpPr>
        <p:spPr>
          <a:xfrm>
            <a:off x="5286240" y="3929040"/>
            <a:ext cx="3214800" cy="1143000"/>
          </a:xfrm>
          <a:prstGeom prst="rect">
            <a:avLst/>
          </a:prstGeom>
          <a:solidFill>
            <a:srgbClr val="a0a4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лекулярно-гене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3"/>
          <p:cNvSpPr/>
          <p:nvPr/>
        </p:nvSpPr>
        <p:spPr>
          <a:xfrm flipH="1">
            <a:off x="3142800" y="1714680"/>
            <a:ext cx="71640" cy="22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8"/>
          <p:cNvSpPr/>
          <p:nvPr/>
        </p:nvSpPr>
        <p:spPr>
          <a:xfrm>
            <a:off x="5785560" y="1714680"/>
            <a:ext cx="71640" cy="22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928960" y="950760"/>
            <a:ext cx="59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Фауны и флоры различных островов также отличаются от материковых, причем, чем раньше была потеряна связь с материком и чем дальше они расположены друг от друга, тем больше разница между обитателями островов и матер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2.Особенности флоры и фауны островов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(Мадагаскар,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Галапагосские  остров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6" descr="игуана"/>
          <p:cNvPicPr/>
          <p:nvPr/>
        </p:nvPicPr>
        <p:blipFill>
          <a:blip r:embed="rId1"/>
          <a:stretch/>
        </p:blipFill>
        <p:spPr>
          <a:xfrm>
            <a:off x="324000" y="1916280"/>
            <a:ext cx="2879640" cy="20890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144" name="Прямоугольник 12"/>
          <p:cNvSpPr/>
          <p:nvPr/>
        </p:nvSpPr>
        <p:spPr>
          <a:xfrm>
            <a:off x="3924360" y="1989000"/>
            <a:ext cx="49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Следы геологического единства Южной Америки, Африки, острова Мадагаскар сохраняются в современной фауне. Например, ящерицы-игуаны Мадагаскара и Южной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3"/>
          <p:cNvSpPr/>
          <p:nvPr/>
        </p:nvSpPr>
        <p:spPr>
          <a:xfrm>
            <a:off x="971640" y="1484280"/>
            <a:ext cx="129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Игу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324000" y="4508640"/>
            <a:ext cx="2879640" cy="216036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7"/>
          <p:cNvSpPr/>
          <p:nvPr/>
        </p:nvSpPr>
        <p:spPr>
          <a:xfrm>
            <a:off x="250920" y="407664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Кошачий лем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8"/>
          <p:cNvSpPr/>
          <p:nvPr/>
        </p:nvSpPr>
        <p:spPr>
          <a:xfrm>
            <a:off x="4067280" y="4581360"/>
            <a:ext cx="48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Лемуры — семейство эндемичных приматов Мадагаскара, насчитывающее порядка 75 видов, включая 17 вымер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762120" y="2781360"/>
            <a:ext cx="4097160" cy="3186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755640" y="23493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Слоновая черепа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384360" cy="52340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5076720" y="476280"/>
            <a:ext cx="35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Галапагосский пинг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3240000" cy="20163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755640" y="18900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Голубоногая ол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928960" y="879480"/>
            <a:ext cx="59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пример, на Мадагаскаре нет высших обезьян, типичных для Африканского континента, но сохранились лемуры. Это объясняется появлением водной преграды между континентом и островом в то время, когда еще не было высших обезья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3"/>
          <a:stretch/>
        </p:blipFill>
        <p:spPr>
          <a:xfrm>
            <a:off x="14292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446040" y="13176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71680" y="1214280"/>
            <a:ext cx="82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чему эволюционная парадигма признана учеными всего ми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28760" y="2286000"/>
            <a:ext cx="8358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Географические закономерности распределения живых организмов  на Земле отражают состояние континентов, их  расположение в разные исторические периоды и являются убедительными доказательствами эволюции органического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99960" y="189000"/>
            <a:ext cx="8132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571680" y="1071720"/>
            <a:ext cx="8143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иогеографические доказательства э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42920" y="3071880"/>
            <a:ext cx="87152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Це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основе данных биогеографии понять,  поч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основе данных биогеографии убедиться в том, что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эволюционное учение признано учеными всего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heImg" descr="@@94732"/>
          <p:cNvPicPr/>
          <p:nvPr/>
        </p:nvPicPr>
        <p:blipFill>
          <a:blip r:embed="rId1"/>
          <a:stretch/>
        </p:blipFill>
        <p:spPr>
          <a:xfrm>
            <a:off x="6215040" y="0"/>
            <a:ext cx="2786040" cy="185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214200" y="5072040"/>
            <a:ext cx="1428840" cy="1590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1571760" y="5243400"/>
            <a:ext cx="1450800" cy="1614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toy04_15591bi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57680" y="5214960"/>
            <a:ext cx="128556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71524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Задания на «3»:   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Ответить на вопросы: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 Что изучает биогеография? Назовите ученых – основоположников биогеографии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 Дайте определение понятию «биогеографическая область». По какому принципу ученые выделяют биографические области?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3. Рассмотрите рис. 155. Какие биографические области выделяют ученые? Назовите местонахождения каждой из этих областей.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4. В чем причина сходства или различия флоры и фауны разных биогеографических областей? Приведите примеры, доказывающие сходство или различие различных биогеографических областей?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5. Закончите предложение: к биогеографическим доказательствам эволюции органического мира относят _________________________________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000760" y="1049400"/>
            <a:ext cx="374328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ь Земли А.Уоллес разделил на шесть биогеографических облас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алеоарктическу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Европа, Северная Африка, Северная и Средняя Азия, Япо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арктическу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еверная Амери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Эфиоп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фрика к югу от Сахар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до-Малай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Южная Азия и Малайский архипелаг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тропиче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Центральная и Южная Амери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стралий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4392720" cy="2806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Биогеографические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2" descr=""/>
          <p:cNvPicPr/>
          <p:nvPr/>
        </p:nvPicPr>
        <p:blipFill>
          <a:blip r:embed="rId1"/>
          <a:stretch/>
        </p:blipFill>
        <p:spPr>
          <a:xfrm>
            <a:off x="298440" y="1123920"/>
            <a:ext cx="8416800" cy="5376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8785440" cy="26478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446040" y="13176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987640" y="817560"/>
            <a:ext cx="58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уна и флора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алеоарктиче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арктиче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стей сходны, хотя и между ними находится Берингов пролив. Сходство объясняется тем, что в недалеком прошлом существовал сухопутный мост —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Берингов переше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и две области объединены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Голарктиче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987640" y="888840"/>
            <a:ext cx="58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зличия в растительном и животном мире между Неоарктической и Неотропической областями объясняются тем, что Панамский перешеек появился недавно. Только немногие виды сумели проникнуть в Северную Америку (броненосец, опоссум) и из Северной Америки в Юж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987640" y="100008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стралия отделилась от остальных материков более 100 млн. лет назад, тогда еще не было плацентарных животных, и изоляция сохранила примитивных яйцекладущих и сумчатых млекопит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2:00:01Z</dcterms:created>
  <dc:creator>Pimenov AV</dc:creator>
  <dc:description/>
  <dc:language>en-US</dc:language>
  <cp:lastModifiedBy> Пользователь</cp:lastModifiedBy>
  <dcterms:modified xsi:type="dcterms:W3CDTF">2012-11-16T03:14:36Z</dcterms:modified>
  <cp:revision>64</cp:revision>
  <dc:subject/>
  <dc:title>Тема: Доказательства эволюции</dc:title>
</cp:coreProperties>
</file>